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7AEE-FCF5-4F90-8397-27413756A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B66E-D8F6-4FB8-A63D-F7A5A580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8960-CB89-4859-B812-740E0B94A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A870-FF24-4D99-8049-C83A4E724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A744-6BB6-48E0-837E-260A281A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9254-6D80-406A-8483-007FBD08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7A61-D344-4FCD-9985-4B0108C4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F77E-91A4-418A-BD50-32779C65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EC23-2232-4002-95CF-136EFD6C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F750-ADEC-46A9-B068-15DB3FCB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8540-C425-49FE-B610-47C635B6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F1FB-D902-4E97-9291-8D376500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E5D5-CFAC-47A2-B219-6FF385F0D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560" y="14400"/>
            <a:ext cx="698508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"/>
              </a:rPr>
              <a:t>Immagini dalla Shoa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Photo gallery - Oswiecim Poland"/>
          <p:cNvPicPr/>
          <p:nvPr/>
        </p:nvPicPr>
        <p:blipFill>
          <a:blip r:embed="rId1"/>
          <a:stretch/>
        </p:blipFill>
        <p:spPr>
          <a:xfrm>
            <a:off x="1044720" y="1052640"/>
            <a:ext cx="7056360" cy="4906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708360" y="602136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© Strykowski F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638172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percorso fotografico a cura di Luciano Zappella – 1 p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0000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Main Commission for the Investigation of Nazi War Crimes, courtesy of USHMM Photo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47640" y="189000"/>
            <a:ext cx="61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HETTO di VARSA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76360" y="836640"/>
            <a:ext cx="64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Gruppo di ebrei in fila in attesa di un bicchiere d’acq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6089760" cy="43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0000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Meczenstwo Walka, Zaglada Zydów Polsce 1939-1945. Poland. No. 1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7640" y="189000"/>
            <a:ext cx="61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HETTO di VARSA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76360" y="83664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Bambini orfa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835280" y="1647720"/>
            <a:ext cx="551628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rivolta del ghetto di Varsav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238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0000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National Archives, courtesy of USHMM Photo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189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VOLTA NEL GHETTO di VARSAVIA (19 aprile – 16 maggio 194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76360" y="836640"/>
            <a:ext cx="61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Ebrei catturati durante la rivolta del gh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33096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0000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Main Commission for the Investigation of Nazi War Crimes, courtesy of USHMM Photo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189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VOLTA NEL GHETTO di VARSAVIA (19 aprile – 16 maggio 194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81080" y="836640"/>
            <a:ext cx="511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Una delle immagini più famose della shoah. Arresti di ebrei durante la rivolta del ghet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409760" y="1719360"/>
            <a:ext cx="618660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0000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National Archives, courtesy of USHMM Photo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189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VOLTA NEL GHETTO di VARSAVIA (19 aprile – 16 maggio 194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836640"/>
            <a:ext cx="61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bitazioni del ghetto date alle fi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301760" y="1504800"/>
            <a:ext cx="651024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0000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National Archives, courtesy of USHMM Photo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189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VOLTA NEL GHETTO di VARSAVIA (19 aprile – 16 maggio 194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76360" y="836640"/>
            <a:ext cx="619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Ebrei trovati in un bunker durante la rivolta del gh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32560" cy="43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0000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Poland National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189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VOLTA NEL GHETTO di VARSAVIA (19 aprile – 16 maggio 194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836640"/>
            <a:ext cx="61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Ebrei catturati durante la rivolta del gh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476360" y="1432080"/>
            <a:ext cx="6132600" cy="43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0000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Poland National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189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VOLTA NEL GHETTO di VARSAVIA (19 aprile – 16 maggio 194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76360" y="836640"/>
            <a:ext cx="619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Edifici dati alle fiamme durante la rivolta del gh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42960" y="1504800"/>
            <a:ext cx="605340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0000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Poland National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189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VOLTA NEL GHETTO di VARSAVIA (19 aprile – 16 maggio 194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6360" y="836640"/>
            <a:ext cx="61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Ebrei interrogati durante la rivolta del gh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386000" y="1374840"/>
            <a:ext cx="6372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6920" y="2679480"/>
            <a:ext cx="7129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ghett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71640" y="4807080"/>
            <a:ext cx="723888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71640" y="620640"/>
            <a:ext cx="72388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0000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Poland National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189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VOLTA NEL GHETTO di VARSAVIA (19 aprile – 16 maggio 194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76360" y="836640"/>
            <a:ext cx="61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Ebrei uccisi durante la rivolta del gh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47640" y="1649520"/>
            <a:ext cx="615024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0000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Poland National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189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VOLTA NEL GHETTO di VARSAVIA (19 aprile – 16 maggio 194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61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Ebrei catturati durante la rivolta del gh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187280" y="1360440"/>
            <a:ext cx="67834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0000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Poland National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189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VOLTA NEL GHETTO di VARSAVIA (19 aprile – 16 maggio 194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35280" y="836640"/>
            <a:ext cx="56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Il maggiore delle SS Jürgen Stroop (al centro) osserva le operazioni di soppressione del ghetto di Varsa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403280" y="1576440"/>
            <a:ext cx="641340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0000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Polish National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189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VOLTA NEL GHETTO di VARSAVIA (19 aprile – 16 maggio 194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6360" y="836640"/>
            <a:ext cx="61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Due membri ukraini delle 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33600" y="1432080"/>
            <a:ext cx="6200640" cy="43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0000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Polish National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189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VOLTA NEL GHETTO di VARSAVIA (19 aprile – 16 maggio 194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24000" y="836640"/>
            <a:ext cx="48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ue uomini si apprestano a gettarsi nel vuoto per evitare l’arre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19280" y="1647720"/>
            <a:ext cx="5908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0000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Polish National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189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VOLTA NEL GHETTO di VARSAVIA (19 aprile – 16 maggio 194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76360" y="871560"/>
            <a:ext cx="61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Rovine del ghetto di Varsa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47640" y="1503360"/>
            <a:ext cx="613260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547640" y="1670040"/>
            <a:ext cx="583272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ando viene la conoscenza, viene anche a poco a poco il ricordo. Conoscenza e ricordo sono una sola e medesima cos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S. Friedlander,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A poco a poco il ricord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, Einaudi, Torino 199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FINE – I PAR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alizzazione di Luciano Zappella - Febbraio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33440" y="271440"/>
            <a:ext cx="827712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 ghetto di Varsav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238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6120000" cy="61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60600" y="1647720"/>
            <a:ext cx="6035760" cy="4373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0000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Archiwum Akt Nowych (former Communist Party Archives), courtesy of USHMM Photo Archi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189000"/>
            <a:ext cx="61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HETTO di VARSA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40000" y="836640"/>
            <a:ext cx="44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Gruppo di ebrei in fila in attesa di entrare nel ghetto di Varsavia, 19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0000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Main Commission for the Investigation of Nazi War Crimes, courtesy of USHMM Photo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189000"/>
            <a:ext cx="61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HETTO di VARSA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63640" y="836640"/>
            <a:ext cx="56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Ebrei polacchi in fila a Krakowskie Przedmiescie, Varsavia, 19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36520" y="1670040"/>
            <a:ext cx="689148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0000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Meczenstwo Walka, Zaglada Zydów Polsce 1939-1945. Poland. No. 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19280" y="189000"/>
            <a:ext cx="61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HETTO di VARSA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6360" y="83664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Muro di confine su via Elektoralna, Varsav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62040" y="1700280"/>
            <a:ext cx="617868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0000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Meczenstwo Walka, Zaglada Zydów Polsce 1939-1945. Poland. No. 74.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47640" y="189000"/>
            <a:ext cx="61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HETTO di VARSA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32000" y="692280"/>
            <a:ext cx="66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ostruzione del muro che separava il ghetto dal resto della città. Nel ghetto vi erano circa 138.000 ebrei, mentre gli altri 113.000 abitanti furono evacuati in un’altra zona della città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24000" y="1795320"/>
            <a:ext cx="501984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4:39:22Z</dcterms:created>
  <dc:creator>Zappella</dc:creator>
  <dc:description/>
  <dc:language>en-US</dc:language>
  <cp:lastModifiedBy>Zappella</cp:lastModifiedBy>
  <dcterms:modified xsi:type="dcterms:W3CDTF">2009-02-28T16:31:22Z</dcterms:modified>
  <cp:revision>26</cp:revision>
  <dc:subject/>
  <dc:title>Immagini dalla Shoah</dc:title>
</cp:coreProperties>
</file>