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DA0-2F13-43EF-BFF0-C6B9CCCB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6C2-B54C-4A26-9866-DF6CBD1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7717-00F4-405D-90DE-D54AEDC9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B03-9988-49AE-BF22-08546AF6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945-0AA5-4EBF-B0AC-4FA9DB8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DD7-2985-4768-BB56-37745542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83F-7FB7-42EF-A52D-D513EB55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68D-3864-4316-BF05-AAF7E365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ED5-F95A-4641-998D-EACFA1B9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F84-C040-4140-9F08-741DDED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2C94-95B9-46EF-982C-5C303D7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781-E923-41B6-A5D2-8D5238C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202-102A-42F8-B5BC-BB194FC4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4400"/>
            <a:ext cx="698508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Immagini dalla Shoa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Photo gallery - Oswiecim Poland"/>
          <p:cNvPicPr/>
          <p:nvPr/>
        </p:nvPicPr>
        <p:blipFill>
          <a:blip r:embed="rId1"/>
          <a:stretch/>
        </p:blipFill>
        <p:spPr>
          <a:xfrm>
            <a:off x="1044720" y="1052640"/>
            <a:ext cx="7056360" cy="490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08360" y="6021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"/>
              </a:rPr>
              <a:t>© Strykowski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638172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percorso fotografico a cura di Luciano Zappella – 1 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83664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uppo di ebrei in fila in attesa di un bicchiere d’ac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0897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1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76360" y="836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mbini orf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35280" y="1647720"/>
            <a:ext cx="55162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rivolta del ghetto di Varsa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3309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8366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a delle immagini più famose della shoah. Arresti di ebrei durante la rivolta del gh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09760" y="1719360"/>
            <a:ext cx="6186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bitazioni del ghetto date alle fi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01760" y="1504800"/>
            <a:ext cx="651024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National Archiv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83664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trovati in un bunker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325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76360" y="1432080"/>
            <a:ext cx="613260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83664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difici dati alle fiamme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2960" y="1504800"/>
            <a:ext cx="60534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interrog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386000" y="1374840"/>
            <a:ext cx="6372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2679480"/>
            <a:ext cx="7129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ghett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4807080"/>
            <a:ext cx="72388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3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uccis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1649520"/>
            <a:ext cx="6150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Ebrei catturati durante la rivolta del gh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187280" y="1360440"/>
            <a:ext cx="67834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and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83664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l maggiore delle SS Jürgen Stroop (al centro) osserva le operazioni di soppressione del 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403280" y="1576440"/>
            <a:ext cx="64134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836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Due membri ukraini delle 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33600" y="1432080"/>
            <a:ext cx="620064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83664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ue uomini si apprestano a gettarsi nel vuoto per evitare l’arr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19280" y="1647720"/>
            <a:ext cx="5908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Polish National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89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VOLTA NEL GHETTO di VARSAVIA (19 aprile – 16 maggio 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87156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ovine del 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547640" y="1503360"/>
            <a:ext cx="61326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47640" y="1670040"/>
            <a:ext cx="583272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viene la conoscenza, viene anche a poco a poco il ricordo. Conoscenza e ricordo sono una sola e medesima cos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S. Friedlander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 poco a poco il ricord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Einaudi, Torino 199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INE – I 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alizzazione di Luciano Zappella - Febbraio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3440" y="271440"/>
            <a:ext cx="82771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ghetto di Varsa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12000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60600" y="1647720"/>
            <a:ext cx="6035760" cy="437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Archiwum Akt Nowych (former Communist Party Archives), courtesy of USHMM Photo Arch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836640"/>
            <a:ext cx="44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Gruppo di ebrei in fila in attesa di entrare nel ghetto di Varsavia,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ain Commission for the Investigation of Nazi War Crimes, courtesy of USHMM Photo Arch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83664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Ebrei polacchi in fila a Krakowskie Przedmiescie, Varsavia, 19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36520" y="1670040"/>
            <a:ext cx="6891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836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uro di confine su via Elektoralna, Varsav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62040" y="1700280"/>
            <a:ext cx="61786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6308640"/>
            <a:ext cx="75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Meczenstwo Walka, Zaglada Zydów Polsce 1939-1945. Poland. No. 74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18900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HETTO di VARSA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692280"/>
            <a:ext cx="66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struzione del muro che separava il ghetto dal resto della città. Nel ghetto vi erano circa 138.000 ebrei, mentre gli altri 113.000 abitanti furono evacuati in un’altra zona della cit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795320"/>
            <a:ext cx="5019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4:39:22Z</dcterms:created>
  <dc:creator>Zappella</dc:creator>
  <dc:description/>
  <dc:language>en-US</dc:language>
  <cp:lastModifiedBy>Zappella</cp:lastModifiedBy>
  <dcterms:modified xsi:type="dcterms:W3CDTF">2009-02-28T16:31:22Z</dcterms:modified>
  <cp:revision>26</cp:revision>
  <dc:subject/>
  <dc:title>Immagini dalla Shoah</dc:title>
</cp:coreProperties>
</file>