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ADB-1049-4BB8-B3F4-EA0BE7A9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672-C17E-4D0D-B9D9-69FB7D5B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ADA-6C98-4A02-889F-2A555635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88B-A34A-4F35-A381-6B5159DA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DB8-BFF1-4420-B92F-F36E2410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0EE-B78C-4786-97B8-E3FB6974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C96-5398-4AF7-82B2-354EEDFE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C0B-5474-44E1-A6C0-7584290B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3FB-9621-42E0-9F92-A31730B9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9B4-9A97-4681-B033-1C5CFF96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656-20C6-4D78-9348-72A5F63D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50A-4B8A-4B9C-9CFC-9D9401ED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6112-EE28-48AE-B083-B42AAB768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14400"/>
            <a:ext cx="698508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Immagini dalla Sho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hoto gallery - Oswiecim Poland"/>
          <p:cNvPicPr/>
          <p:nvPr/>
        </p:nvPicPr>
        <p:blipFill>
          <a:blip r:embed="rId1"/>
          <a:stretch/>
        </p:blipFill>
        <p:spPr>
          <a:xfrm>
            <a:off x="1044720" y="1052640"/>
            <a:ext cx="7056360" cy="4906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08360" y="6021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© Strykowski F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3817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percorso fotografico a cura di Luciano Zappella - 2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tta da: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 The Pictorial History of the Holocaus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ed. Yitzhak Arad. New York: Macmillan, NY,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INSATZGRU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83664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 esecuzione di massa in Unione Sovietica. Alcuni uomini, tra cui un bambino, stanno per essere uccisi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massexec.jpg (155210 bytes)"/>
          <p:cNvPicPr/>
          <p:nvPr/>
        </p:nvPicPr>
        <p:blipFill>
          <a:blip r:embed="rId1"/>
          <a:stretch/>
        </p:blipFill>
        <p:spPr>
          <a:xfrm>
            <a:off x="1403280" y="1771560"/>
            <a:ext cx="63946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47640" y="1670040"/>
            <a:ext cx="583272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do viene la conoscenza, viene anche a poco a poco il ricordo. Conoscenza e ricordo sono una sola e medesima cos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S. Friedlander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 poco a poco il ricord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Einaudi, Torino 19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FINE – II P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lizzazione di Luciano Zappella - Febbraio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5640" y="2606400"/>
            <a:ext cx="7272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depor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4807080"/>
            <a:ext cx="723888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3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eczenstwo Walka, Zaglada Aydów w Polsce 1939-1945. Poland. No. p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DEPOR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69228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Bambini di un orfanatrofio di Marysin, Polania, aspettano di essere trasferiti nel campo di sterminio di Chelm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3040" y="1670040"/>
            <a:ext cx="4057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Rijksinstituut voor Oorlogsdocumentatie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DEPOR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69228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Ebrei olandesi in marcia verso il campo di Amersfoot, sotto stretta sorveglianza, 194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57280" y="1700280"/>
            <a:ext cx="62834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eczenstwo Walka, Zaglada Ayd—w w Polsce 1939-1945. Poland. No. p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DEPOR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692280"/>
            <a:ext cx="60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Marzo del 1942, gli ebrei di Lublino vengono deportati nel campo di sterminio di Belz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5530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Zydowski Instytut Historyczny Instytut Naukowo-Badawc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DEPOR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69228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Bambini Ebrei deportati da Lodz arrivano a Chelmno dopo essere stati trasferiti in treno nella stazione di Kol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8598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606400"/>
            <a:ext cx="7272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Einsatzgru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4807080"/>
            <a:ext cx="723888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3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ain Commission for the Investigation of Nazi War Cr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INSATZGRU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692280"/>
            <a:ext cx="691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Donne ebree provenienti dal ghetto di Mizocz in Ucraina in attesa di essere giustiziate dai tedeschi e da collaborazionisti ucraini (1942). Alcune hanno in braccio i loro figl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mizocz1.jpg (64131 bytes)"/>
          <p:cNvPicPr/>
          <p:nvPr/>
        </p:nvPicPr>
        <p:blipFill>
          <a:blip r:embed="rId1"/>
          <a:stretch/>
        </p:blipFill>
        <p:spPr>
          <a:xfrm>
            <a:off x="1173240" y="1792440"/>
            <a:ext cx="692784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ain Commission for the Investigation of Nazi War Cr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INSATZGRU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855720"/>
            <a:ext cx="68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 poliziotto tedesco finisce i giustiziati ancora vivi dopo un’esecuzione di massa dal ghetto di Mizocz (194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mizocz2.jpg (67271 bytes)"/>
          <p:cNvPicPr/>
          <p:nvPr/>
        </p:nvPicPr>
        <p:blipFill>
          <a:blip r:embed="rId1"/>
          <a:stretch/>
        </p:blipFill>
        <p:spPr>
          <a:xfrm>
            <a:off x="1187280" y="1700280"/>
            <a:ext cx="68821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39:22Z</dcterms:created>
  <dc:creator>Zappella</dc:creator>
  <dc:description/>
  <dc:language>en-US</dc:language>
  <cp:lastModifiedBy>Zappella</cp:lastModifiedBy>
  <dcterms:modified xsi:type="dcterms:W3CDTF">2009-02-27T19:02:32Z</dcterms:modified>
  <cp:revision>26</cp:revision>
  <dc:subject/>
  <dc:title>Immagini dalla Shoah</dc:title>
</cp:coreProperties>
</file>