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E3D-ED0A-461C-88B7-381D232B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F66-2BD9-4B36-82BE-4CA532F3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AC3-DDCB-408D-A5C9-89755AFE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FE06-E88E-4360-BE3C-F9E4CB71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105-BBDB-4F75-89C4-5EF3E093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4DF-D09B-4E02-BD71-10BF6583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9982-F405-4FA7-97A6-77B2F879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085-CB1F-441B-8246-C6A33FAD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9623-9527-4C0A-B037-DA6AF4A6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AF6-1DC7-4175-A115-42A589DF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718-DF9A-444F-A51A-25AE0225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96B-126A-4478-85D3-211C22AF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661F-CF37-47DF-AC5C-5967D18E8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14400"/>
            <a:ext cx="698508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Immagini dalla Sho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Photo gallery - Oswiecim Poland"/>
          <p:cNvPicPr/>
          <p:nvPr/>
        </p:nvPicPr>
        <p:blipFill>
          <a:blip r:embed="rId1"/>
          <a:stretch/>
        </p:blipFill>
        <p:spPr>
          <a:xfrm>
            <a:off x="1044720" y="1052640"/>
            <a:ext cx="7056360" cy="4906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08360" y="6021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© Strykowski F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63817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percorso fotografico a cura di Luciano Zappella - 2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ratta da: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 The Pictorial History of the Holocaust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ed. Yitzhak Arad. New York: Macmillan, NY,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INSATZGRU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836640"/>
            <a:ext cx="63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 esecuzione di massa in Unione Sovietica. Alcuni uomini, tra cui un bambino, stanno per essere uccisi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massexec.jpg (155210 bytes)"/>
          <p:cNvPicPr/>
          <p:nvPr/>
        </p:nvPicPr>
        <p:blipFill>
          <a:blip r:embed="rId1"/>
          <a:stretch/>
        </p:blipFill>
        <p:spPr>
          <a:xfrm>
            <a:off x="1403280" y="1771560"/>
            <a:ext cx="639468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47640" y="1670040"/>
            <a:ext cx="583272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ndo viene la conoscenza, viene anche a poco a poco il ricordo. Conoscenza e ricordo sono una sola e medesima cos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S. Friedlander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 poco a poco il ricord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Einaudi, Torino 199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FINE – II P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lizzazione di Luciano Zappella - Febbraio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5640" y="2606400"/>
            <a:ext cx="7272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deport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4807080"/>
            <a:ext cx="723888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3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eczenstwo Walka, Zaglada Aydów w Polsce 1939-1945. Poland. No. p2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DEPOR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692280"/>
            <a:ext cx="60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Bambini di un orfanatrofio di Marysin, Polania, aspettano di essere trasferiti nel campo di sterminio di Chelm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43040" y="1670040"/>
            <a:ext cx="4057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Rijksinstituut voor Oorlogsdocumentatie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DEPOR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692280"/>
            <a:ext cx="59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Ebrei olandesi in marcia verso il campo di Amersfoot, sotto stretta sorveglianza, 194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57280" y="1700280"/>
            <a:ext cx="62834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eczenstwo Walka, Zaglada Ayd—w w Polsce 1939-1945. Poland. No. p2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DEPOR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692280"/>
            <a:ext cx="60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Marzo del 1942, gli ebrei di Lublino vengono deportati nel campo di sterminio di Belz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5530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Zydowski Instytut Historyczny Instytut Naukowo-Badawc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DEPOR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69228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Bambini Ebrei deportati da Lodz arrivano a Chelmno dopo essere stati trasferiti in treno nella stazione di Kol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8598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606400"/>
            <a:ext cx="7272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000000"/>
                </a:solidFill>
                <a:latin typeface="Arial"/>
              </a:rPr>
              <a:t>Einsatzgru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71640" y="4807080"/>
            <a:ext cx="723888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3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ain Commission for the Investigation of Nazi War Cr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INSATZGRU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692280"/>
            <a:ext cx="691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Donne ebree provenienti dal ghetto di Mizocz in Ucraina in attesa di essere giustiziate dai tedeschi e da collaborazionisti ucraini (1942). Alcune hanno in braccio i loro figli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mizocz1.jpg (64131 bytes)"/>
          <p:cNvPicPr/>
          <p:nvPr/>
        </p:nvPicPr>
        <p:blipFill>
          <a:blip r:embed="rId1"/>
          <a:stretch/>
        </p:blipFill>
        <p:spPr>
          <a:xfrm>
            <a:off x="1173240" y="1792440"/>
            <a:ext cx="692784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ain Commission for the Investigation of Nazi War Cr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INSATZGRU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855720"/>
            <a:ext cx="684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 poliziotto tedesco finisce i giustiziati ancora vivi dopo un’esecuzione di massa dal ghetto di Mizocz (194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mizocz2.jpg (67271 bytes)"/>
          <p:cNvPicPr/>
          <p:nvPr/>
        </p:nvPicPr>
        <p:blipFill>
          <a:blip r:embed="rId1"/>
          <a:stretch/>
        </p:blipFill>
        <p:spPr>
          <a:xfrm>
            <a:off x="1187280" y="1700280"/>
            <a:ext cx="68821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39:22Z</dcterms:created>
  <dc:creator>Zappella</dc:creator>
  <dc:description/>
  <dc:language>en-US</dc:language>
  <cp:lastModifiedBy>Zappella</cp:lastModifiedBy>
  <dcterms:modified xsi:type="dcterms:W3CDTF">2009-02-27T19:02:32Z</dcterms:modified>
  <cp:revision>26</cp:revision>
  <dc:subject/>
  <dc:title>Immagini dalla Shoah</dc:title>
</cp:coreProperties>
</file>