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23.png" ContentType="image/png"/>
  <Override PartName="/ppt/media/image13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2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4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B4F7-FE34-4162-80F2-52A4023A3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D934-3E8D-4634-8864-63AC15320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9AAD-08FC-4560-B129-A34C86EC6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A7DE-4566-491C-AB4A-64713E840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4392-D3CD-4411-9A1E-7A2CD2540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D97C-D428-45C7-931E-36746F35A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8F82-72E9-4CE5-A051-8D8A24296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23BF-2AA8-4DC4-AA48-DEE7C89EB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BC18-58A8-41D6-9B88-B8C0A0386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403F-D6A6-4B65-9F89-76891556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020D-30D8-4A43-87CE-1A3000B0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6E7A-D4FE-4721-AE04-CB390A53A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99343-2EDA-401C-AAE3-486138107B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3.xm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560" y="14400"/>
            <a:ext cx="698508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d4d4d"/>
                </a:solidFill>
                <a:latin typeface="Arial"/>
              </a:rPr>
              <a:t>Immagini dalla Shoa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Photo gallery - Oswiecim Poland"/>
          <p:cNvPicPr/>
          <p:nvPr/>
        </p:nvPicPr>
        <p:blipFill>
          <a:blip r:embed="rId1"/>
          <a:stretch/>
        </p:blipFill>
        <p:spPr>
          <a:xfrm>
            <a:off x="1044720" y="1052640"/>
            <a:ext cx="7056360" cy="4906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708360" y="6021360"/>
            <a:ext cx="172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© Strykowski Fo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42920" y="638172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 percorso fotografico a cura di Luciano Zappella – 3 pa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Polish workmen and SS at Chelmno"/>
          <p:cNvPicPr/>
          <p:nvPr/>
        </p:nvPicPr>
        <p:blipFill>
          <a:blip r:embed="rId1"/>
          <a:stretch/>
        </p:blipFill>
        <p:spPr>
          <a:xfrm>
            <a:off x="1566720" y="1593720"/>
            <a:ext cx="6010560" cy="4572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24000" y="189000"/>
            <a:ext cx="84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H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Ł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NO - KULMHO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49440" y="836640"/>
            <a:ext cx="59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Lavoratori polacchi e SS a Ghelm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403280" y="6453360"/>
            <a:ext cx="619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www.HolocaustResearchProjec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459640" y="6308640"/>
            <a:ext cx="409680" cy="1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606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Treblin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71640" y="549360"/>
            <a:ext cx="7238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50920" y="700200"/>
            <a:ext cx="8675640" cy="57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Stangl and Kurt Franz - Treblinka "/>
          <p:cNvPicPr/>
          <p:nvPr/>
        </p:nvPicPr>
        <p:blipFill>
          <a:blip r:embed="rId1"/>
          <a:stretch/>
        </p:blipFill>
        <p:spPr>
          <a:xfrm>
            <a:off x="1476360" y="2008080"/>
            <a:ext cx="6262560" cy="43736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24000" y="189000"/>
            <a:ext cx="84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REBLINK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044720" y="692280"/>
            <a:ext cx="7127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Il comandante di Treblinka, </a:t>
            </a:r>
            <a:r>
              <a:rPr b="1" lang="it-IT" sz="2000" spc="-1" strike="noStrike">
                <a:solidFill>
                  <a:srgbClr val="000000"/>
                </a:solidFill>
                <a:latin typeface="Garamond"/>
              </a:rPr>
              <a:t>Franz Stangl</a:t>
            </a: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 (a sinistra) e il suo vice, Kurt Franz, parlano davanti ad una baracca. Franz Strangl porta quella giacca bianca più volte ricordata dai testimoni sopravvissuti nel corso del processo del 197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47640" y="6467400"/>
            <a:ext cx="626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urt Franz Alb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24000" y="189000"/>
            <a:ext cx="84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REBLINK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044720" y="765000"/>
            <a:ext cx="7127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Lo zoo di Treblinka, costruito nella primavera 1943 da internati ebrei. Il comandante del  campo, Franz Stangl, disse dello zoo: </a:t>
            </a:r>
            <a:r>
              <a:rPr b="0" i="1" lang="it-IT" sz="2000" spc="-1" strike="noStrike">
                <a:solidFill>
                  <a:srgbClr val="000000"/>
                </a:solidFill>
                <a:latin typeface="Garamond"/>
              </a:rPr>
              <a:t>“Abbiamo un bel numero di uccelli meravigliosi, panchine e fiori…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47640" y="6467400"/>
            <a:ext cx="626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urt Franz Alb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320840" y="2008080"/>
            <a:ext cx="656424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24000" y="189000"/>
            <a:ext cx="84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REBLINK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4360" y="765000"/>
            <a:ext cx="777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oto scattata nell’estate del 1942 nel periodo della costruzione di 10 nuove camere a gas. Sullo sfondo il profilo dello zo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house.jpg (14536 bytes)"/>
          <p:cNvPicPr/>
          <p:nvPr/>
        </p:nvPicPr>
        <p:blipFill>
          <a:blip r:embed="rId1"/>
          <a:stretch/>
        </p:blipFill>
        <p:spPr>
          <a:xfrm>
            <a:off x="684360" y="1700280"/>
            <a:ext cx="774540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003640" y="189000"/>
            <a:ext cx="381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REBLINK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765000"/>
            <a:ext cx="295092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Ebrei deportati a Treblinka dalla stazione di  Siedlc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il 22 agosto  1942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Foto scattata di nascosto da un soldato austriaco, Hubert Pfo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siedlce1.jpg (61858 bytes)"/>
          <p:cNvPicPr/>
          <p:nvPr/>
        </p:nvPicPr>
        <p:blipFill>
          <a:blip r:embed="rId1"/>
          <a:stretch/>
        </p:blipFill>
        <p:spPr>
          <a:xfrm>
            <a:off x="539640" y="331920"/>
            <a:ext cx="433728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606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Sobib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71640" y="549360"/>
            <a:ext cx="7238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792000"/>
            <a:ext cx="9144000" cy="535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24000" y="189000"/>
            <a:ext cx="84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OBIB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26920" y="765000"/>
            <a:ext cx="749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Una piccola collina formatasi con la cenere di circa 200.000-250.000 ebrei eliminati a Sobib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ahshes.jpg (58345 bytes)"/>
          <p:cNvPicPr/>
          <p:nvPr/>
        </p:nvPicPr>
        <p:blipFill>
          <a:blip r:embed="rId1"/>
          <a:stretch/>
        </p:blipFill>
        <p:spPr>
          <a:xfrm>
            <a:off x="771480" y="1760400"/>
            <a:ext cx="7601040" cy="44769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826920" y="6453360"/>
            <a:ext cx="76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einartz, Dirk;</a:t>
            </a: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 Deathly Still - Pictures  of concentration camps,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p. 2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15640" y="2606400"/>
            <a:ext cx="72723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campi di stermin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71640" y="4807080"/>
            <a:ext cx="7238880" cy="1143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971640" y="620640"/>
            <a:ext cx="723888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24000" y="189000"/>
            <a:ext cx="84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OBIB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4360" y="1087560"/>
            <a:ext cx="77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La stazione di Sobib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47640" y="6467400"/>
            <a:ext cx="626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Arad, Yitzhak; The Pictorial History of the Holocaust, p. 2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station.jpg (38412 bytes)"/>
          <p:cNvPicPr/>
          <p:nvPr/>
        </p:nvPicPr>
        <p:blipFill>
          <a:blip r:embed="rId1"/>
          <a:stretch/>
        </p:blipFill>
        <p:spPr>
          <a:xfrm>
            <a:off x="1187280" y="1792440"/>
            <a:ext cx="6694560" cy="43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24000" y="189000"/>
            <a:ext cx="84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OBIB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1015920"/>
            <a:ext cx="77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Lo smantellamento del campo di Sobib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187280" y="1700280"/>
            <a:ext cx="68374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606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Belze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971640" y="549360"/>
            <a:ext cx="7238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593640"/>
            <a:ext cx="9144000" cy="535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24000" y="189000"/>
            <a:ext cx="84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ELZE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58920" y="765000"/>
            <a:ext cx="655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Un gruppo di Rom prigionieri aspetta istruzioni in un’area aperta vicino al reticolato del campo di Belze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547640" y="6467400"/>
            <a:ext cx="626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Archives of Mechanical Documentation, courtesy of USHMM Photo Arch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224000" y="1866960"/>
            <a:ext cx="6661080" cy="43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24000" y="189000"/>
            <a:ext cx="84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ELZE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58920" y="76500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Una copia di  Rom prigionieri a Belze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16000" y="6467400"/>
            <a:ext cx="684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Glowna Komisja Badania Zbrodni Przeciwko Narodowi Polskiemu, courtesy of USHMM Photo Arch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476360" y="1805040"/>
            <a:ext cx="615492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24000" y="189000"/>
            <a:ext cx="84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ELZE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0" y="76500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La casa del comandate di Belze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47640" y="6467400"/>
            <a:ext cx="626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Archives of Mechanical Documentation, courtesy of USHMM Photo Arch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150920" y="1700280"/>
            <a:ext cx="695016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24000" y="189000"/>
            <a:ext cx="84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ELZE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332000" y="76500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Le SS di stanza a Belzec davanti al comand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258920" y="1649520"/>
            <a:ext cx="669780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24000" y="189000"/>
            <a:ext cx="84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ELZE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58920" y="76500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Una donna sta per essere uccisa a Belze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547640" y="6467400"/>
            <a:ext cx="626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Leopold Page Photographic Col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03280" y="1700280"/>
            <a:ext cx="649944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24000" y="189000"/>
            <a:ext cx="84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ELZE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87280" y="765000"/>
            <a:ext cx="6840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Un gruppo di ebrei appartenenti al Sonderkommando di Belzec.  La foto è del 1943 e dal momento che i trasporti si fermarono nel dicembre 1942, questo gruppo sta probabilmente esumando per poi cremarli i corpi dei 600.000 uccisi nel camp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547640" y="6467400"/>
            <a:ext cx="626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Arad, Yitzhak; The Pictorial History of the Holocaust, p. 2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392120" y="2079720"/>
            <a:ext cx="64198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555040" cy="51228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24000" y="189000"/>
            <a:ext cx="84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IL SISTEMA CONCENTRAZIONARIO E DI STERMIN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16360" y="5373720"/>
            <a:ext cx="718920" cy="21600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2852640"/>
            <a:ext cx="1366920" cy="21600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948360" y="1916280"/>
            <a:ext cx="1800360" cy="21744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2565360"/>
            <a:ext cx="1366920" cy="21600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84360" y="3645000"/>
            <a:ext cx="1008000" cy="21564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987640" y="4653000"/>
            <a:ext cx="1008000" cy="21600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71640" y="2276640"/>
            <a:ext cx="1008360" cy="21564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95640" y="3860640"/>
            <a:ext cx="1008000" cy="21600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0920" y="5229360"/>
            <a:ext cx="1366920" cy="21564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8720" y="5589720"/>
            <a:ext cx="1008000" cy="21564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32360" y="2060640"/>
            <a:ext cx="1008000" cy="21600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484360" y="3357720"/>
            <a:ext cx="719280" cy="21564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948360" y="1197000"/>
            <a:ext cx="180036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73440" y="4149720"/>
            <a:ext cx="1366920" cy="21600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47640" y="2708280"/>
            <a:ext cx="1366920" cy="21600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64000" y="3213000"/>
            <a:ext cx="100836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164360" y="3429000"/>
            <a:ext cx="100800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164360" y="4149720"/>
            <a:ext cx="100800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04000" y="2925720"/>
            <a:ext cx="100800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64000" y="4221000"/>
            <a:ext cx="1008360" cy="216000"/>
          </a:xfrm>
          <a:prstGeom prst="rect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93080" y="3789360"/>
            <a:ext cx="1008000" cy="216000"/>
          </a:xfrm>
          <a:prstGeom prst="rect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48360" y="1557360"/>
            <a:ext cx="1800360" cy="287280"/>
          </a:xfrm>
          <a:prstGeom prst="rect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606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Majdan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971640" y="549360"/>
            <a:ext cx="7238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24000" y="189000"/>
            <a:ext cx="84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AJDAN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11280" y="76500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Veduta aerea del camp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47640" y="6467400"/>
            <a:ext cx="626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Archiwum Panstwowego Muzeum na Majdank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547640" y="1557360"/>
            <a:ext cx="606744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24000" y="189000"/>
            <a:ext cx="84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AJDAN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11280" y="76500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Le baracche di Majdanek viste dalla torretta di guard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03280" y="6467400"/>
            <a:ext cx="66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Glowna Komisja Badania Zbrodni Przeciwko Narodowi Polskiemu, courtesy of USHMM Photo Arch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649944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24000" y="189000"/>
            <a:ext cx="84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AJDAN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11280" y="76500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Un magazzino con contenitori di Zyklon B a Majdanek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547640" y="6467400"/>
            <a:ext cx="626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Main Commission for the Investigation of Nazi War Crimes, courtesy of USHMM Photo Arch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7132680" cy="43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24000" y="189000"/>
            <a:ext cx="84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AJDAN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11280" y="76500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Il retro di una delle camere a gas di Majdan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547640" y="6467400"/>
            <a:ext cx="626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holocaustresearchprojec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610092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24000" y="189000"/>
            <a:ext cx="84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AJDAN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11280" y="58428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Il crematorio di Majdan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47640" y="6467400"/>
            <a:ext cx="626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holocaustresearchprojec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824120" y="1125360"/>
            <a:ext cx="5495760" cy="53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24000" y="189000"/>
            <a:ext cx="84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AJDAN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11280" y="76500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Un forno crematorio di Majdanek dopo la liberazi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547640" y="6467400"/>
            <a:ext cx="626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holocaustresearchprojec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971720" y="1276200"/>
            <a:ext cx="5121360" cy="50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24000" y="189000"/>
            <a:ext cx="84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AJDAN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11280" y="765000"/>
            <a:ext cx="79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Civili polacchi ispezionano i forni crematori di Majdanek dopo la liberazi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547640" y="6467400"/>
            <a:ext cx="626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Archiwum Akt Nowy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1336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547640" y="1670040"/>
            <a:ext cx="5832720" cy="38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Quando viene la conoscenza, viene anche a poco a poco il ricordo. Conoscenza e ricordo sono una sola e medesima cos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(S. Friedlander, 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A poco a poco il ricord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, Einaudi, Torino 199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FINE – 3 PAR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ealizzazione di Luciano Zappella - Febbraio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606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Che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  <a:ea typeface="Arial"/>
              </a:rPr>
              <a:t>łmno 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- Kulmh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71640" y="549360"/>
            <a:ext cx="7238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24000" y="189000"/>
            <a:ext cx="84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H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Ł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NO - KULMHO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62000" y="549360"/>
            <a:ext cx="8820000" cy="53150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39640" y="5851440"/>
            <a:ext cx="806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Il campo di sterminio di Chelmno venne istituito per uccidere i 385.000 Ebrei del </a:t>
            </a:r>
            <a:r>
              <a:rPr b="0" i="1" lang="it-IT" sz="2000" spc="-1" strike="noStrike">
                <a:solidFill>
                  <a:srgbClr val="000000"/>
                </a:solidFill>
                <a:latin typeface="Garamond"/>
              </a:rPr>
              <a:t>Warthegau</a:t>
            </a: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 (costituito dalla provincia polacca di </a:t>
            </a:r>
            <a:r>
              <a:rPr b="1" lang="it-IT" sz="2000" spc="-1" strike="noStrike">
                <a:solidFill>
                  <a:srgbClr val="000000"/>
                </a:solidFill>
                <a:latin typeface="Garamond"/>
              </a:rPr>
              <a:t>Poznan</a:t>
            </a: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 e parti dei voivodati di </a:t>
            </a:r>
            <a:r>
              <a:rPr b="1" lang="it-IT" sz="2000" spc="-1" strike="noStrike">
                <a:solidFill>
                  <a:srgbClr val="000000"/>
                </a:solidFill>
                <a:latin typeface="Garamond"/>
              </a:rPr>
              <a:t>Bydgoszcz, Lodz, Pomorze</a:t>
            </a: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 e </a:t>
            </a:r>
            <a:r>
              <a:rPr b="1" lang="it-IT" sz="2000" spc="-1" strike="noStrike">
                <a:solidFill>
                  <a:srgbClr val="000000"/>
                </a:solidFill>
                <a:latin typeface="Garamond"/>
              </a:rPr>
              <a:t>Varsavia</a:t>
            </a: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, annesse al </a:t>
            </a:r>
            <a:r>
              <a:rPr b="0" i="1" lang="it-IT" sz="2000" spc="-1" strike="noStrike">
                <a:solidFill>
                  <a:srgbClr val="000000"/>
                </a:solidFill>
                <a:latin typeface="Garamond"/>
              </a:rPr>
              <a:t>Reich</a:t>
            </a: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973080" y="765000"/>
            <a:ext cx="7199280" cy="48722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24000" y="189000"/>
            <a:ext cx="84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H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Ł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NO - KULMHO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55640" y="5589720"/>
            <a:ext cx="763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Il campo di sterminio di </a:t>
            </a:r>
            <a:r>
              <a:rPr b="1" lang="it-IT" sz="2000" spc="-1" strike="noStrike">
                <a:solidFill>
                  <a:srgbClr val="000000"/>
                </a:solidFill>
                <a:latin typeface="Garamond"/>
              </a:rPr>
              <a:t>Chelmno</a:t>
            </a: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 (in tedesco </a:t>
            </a:r>
            <a:r>
              <a:rPr b="1" lang="it-IT" sz="2000" spc="-1" strike="noStrike">
                <a:solidFill>
                  <a:srgbClr val="000000"/>
                </a:solidFill>
                <a:latin typeface="Garamond"/>
              </a:rPr>
              <a:t>Kulmhof</a:t>
            </a: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) si trova 60 km a nord-ovest di Lodz e 14 km a sud-est di Kolo. I Nazisti scelsero a Chelmno una casa padronale vuota (chiamata il Castello: </a:t>
            </a:r>
            <a:r>
              <a:rPr b="0" i="1" lang="it-IT" sz="2000" spc="-1" strike="noStrike">
                <a:solidFill>
                  <a:srgbClr val="000000"/>
                </a:solidFill>
                <a:latin typeface="Garamond"/>
              </a:rPr>
              <a:t>foto</a:t>
            </a: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) per scopi di stermini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49975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24000" y="5157720"/>
            <a:ext cx="856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A </a:t>
            </a:r>
            <a:r>
              <a:rPr b="1" lang="it-IT" sz="2000" spc="-1" strike="noStrike">
                <a:solidFill>
                  <a:srgbClr val="000000"/>
                </a:solidFill>
                <a:latin typeface="Garamond"/>
              </a:rPr>
              <a:t>Chelmno</a:t>
            </a: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 i nazisti sperimentarono la soppressione degli ebrei, stivati in camion appositamente attrezzati, a mezzo del gas del tubo di scappamento. Da un rapporto rinvenuto casualmente negli archivi della direzione centrale delle </a:t>
            </a:r>
            <a:r>
              <a:rPr b="1" lang="it-IT" sz="2000" spc="-1" strike="noStrike">
                <a:solidFill>
                  <a:srgbClr val="000000"/>
                </a:solidFill>
                <a:latin typeface="Garamond"/>
              </a:rPr>
              <a:t>SS</a:t>
            </a: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 si legge testualmente  «nel giro di sei mesi tre di questi camion hanno "trattato" 97.000 "pezzi" senza inconvenienti di sorta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24000" y="189000"/>
            <a:ext cx="84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H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Ł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NO - KULMHO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Gas Van Of of the type used at Chelmno"/>
          <p:cNvPicPr/>
          <p:nvPr/>
        </p:nvPicPr>
        <p:blipFill>
          <a:blip r:embed="rId1"/>
          <a:stretch/>
        </p:blipFill>
        <p:spPr>
          <a:xfrm>
            <a:off x="684360" y="981000"/>
            <a:ext cx="3952800" cy="28576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148360" y="2349360"/>
            <a:ext cx="3467160" cy="3524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11280" y="4508640"/>
            <a:ext cx="396072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Garamond"/>
              </a:rPr>
              <a:t>Sopra</a:t>
            </a: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: camion usati a Chelmno per gasare i prigionieri (</a:t>
            </a:r>
            <a:r>
              <a:rPr b="1" i="1" lang="it-IT" sz="2000" spc="-1" strike="noStrike">
                <a:solidFill>
                  <a:srgbClr val="000000"/>
                </a:solidFill>
                <a:latin typeface="Garamond"/>
              </a:rPr>
              <a:t>gaswagen</a:t>
            </a: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Garamond"/>
              </a:rPr>
              <a:t>A destra</a:t>
            </a: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: un gruppo di ebrei in attesa di essere caricati sui </a:t>
            </a:r>
            <a:r>
              <a:rPr b="1" i="1" lang="it-IT" sz="2000" spc="-1" strike="noStrike">
                <a:solidFill>
                  <a:srgbClr val="000000"/>
                </a:solidFill>
                <a:latin typeface="Garamond"/>
              </a:rPr>
              <a:t>gaswagen</a:t>
            </a: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219640" y="5950080"/>
            <a:ext cx="35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Main Commission for the Investigation of Nazi War Crimes, courtesy of USHMM Photo Archives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4360" y="3933720"/>
            <a:ext cx="395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© YIVO Institute for Jewish Research/United States Holocaust Memorial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Gas Van Interior "/>
          <p:cNvPicPr/>
          <p:nvPr/>
        </p:nvPicPr>
        <p:blipFill>
          <a:blip r:embed="rId1"/>
          <a:stretch/>
        </p:blipFill>
        <p:spPr>
          <a:xfrm>
            <a:off x="762120" y="1295280"/>
            <a:ext cx="7619760" cy="5086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24000" y="189000"/>
            <a:ext cx="84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H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Ł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NO - KULMHO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00000" y="765000"/>
            <a:ext cx="73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Interno di un camion a gas (</a:t>
            </a:r>
            <a:r>
              <a:rPr b="1" lang="it-IT" sz="2000" spc="-1" strike="noStrike">
                <a:solidFill>
                  <a:srgbClr val="000000"/>
                </a:solidFill>
                <a:latin typeface="Garamond"/>
              </a:rPr>
              <a:t>gaswagen</a:t>
            </a: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).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403280" y="6453360"/>
            <a:ext cx="619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www.HolocaustResearchProject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4:39:22Z</dcterms:created>
  <dc:creator>Zappella</dc:creator>
  <dc:description/>
  <dc:language>en-US</dc:language>
  <cp:lastModifiedBy>Zappella</cp:lastModifiedBy>
  <dcterms:modified xsi:type="dcterms:W3CDTF">2009-02-27T19:07:44Z</dcterms:modified>
  <cp:revision>26</cp:revision>
  <dc:subject/>
  <dc:title>Immagini dalla Shoah</dc:title>
</cp:coreProperties>
</file>