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BEB-A2E0-452B-9447-A5B69BF8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A30-6796-4758-AF4C-D2F61F83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B19-605B-4383-AE69-EAF60104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516-38B4-4BC2-8F7D-A7763D06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F60-B0C6-413D-A63B-68943B12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90F-08EF-4EF5-BE5C-85F6AF0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E9DF-8729-4F77-BD9D-2942BD2D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120-0736-4953-BAEF-6E10D082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D60-0924-4BF6-AB9D-30F8431B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134-8336-43DB-927C-A6BBAD86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A1B-89C0-4788-B41E-B9081621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833-AA9E-4E12-8B40-BDF7F6B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35B4-AEBE-4D00-BD75-E85FD1E8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4400"/>
            <a:ext cx="698508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Immagini dalla Sho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 gallery - Oswiecim Poland"/>
          <p:cNvPicPr/>
          <p:nvPr/>
        </p:nvPicPr>
        <p:blipFill>
          <a:blip r:embed="rId1"/>
          <a:stretch/>
        </p:blipFill>
        <p:spPr>
          <a:xfrm>
            <a:off x="1044720" y="1052640"/>
            <a:ext cx="7056360" cy="490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© Strykowski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percorso fotografico a cura di Luciano Zappella – 3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Polish workmen and SS at Chelmno"/>
          <p:cNvPicPr/>
          <p:nvPr/>
        </p:nvPicPr>
        <p:blipFill>
          <a:blip r:embed="rId1"/>
          <a:stretch/>
        </p:blipFill>
        <p:spPr>
          <a:xfrm>
            <a:off x="1566720" y="1593720"/>
            <a:ext cx="601056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NO - KULM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9440" y="83664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voratori polacchi e SS a Ghelm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6453360"/>
            <a:ext cx="61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ww.HolocaustResearchProjec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08640"/>
            <a:ext cx="40968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Trebli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700200"/>
            <a:ext cx="86756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Stangl and Kurt Franz - Treblinka "/>
          <p:cNvPicPr/>
          <p:nvPr/>
        </p:nvPicPr>
        <p:blipFill>
          <a:blip r:embed="rId1"/>
          <a:stretch/>
        </p:blipFill>
        <p:spPr>
          <a:xfrm>
            <a:off x="1476360" y="2008080"/>
            <a:ext cx="6262560" cy="437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EBLI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4720" y="69228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comandante di Treblinka,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Franz Stangl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(a sinistra) e il suo vice, Kurt Franz, parlano davanti ad una baracca. Franz Strangl porta quella giacca bianca più volte ricordata dai testimoni sopravvissuti nel corso del processo del 1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urt Franz A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EBLI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4720" y="76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o zoo di Treblinka, costruito nella primavera 1943 da internati ebrei. Il comandante del  campo, Franz Stangl, disse dello zoo: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“Abbiamo un bel numero di uccelli meravigliosi, panchine e fiori…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urt Franz A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20840" y="2008080"/>
            <a:ext cx="65642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EBLI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765000"/>
            <a:ext cx="77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to scattata nell’estate del 1942 nel periodo della costruzione di 10 nuove camere a gas. Sullo sfondo il profilo dello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house.jpg (14536 bytes)"/>
          <p:cNvPicPr/>
          <p:nvPr/>
        </p:nvPicPr>
        <p:blipFill>
          <a:blip r:embed="rId1"/>
          <a:stretch/>
        </p:blipFill>
        <p:spPr>
          <a:xfrm>
            <a:off x="684360" y="1700280"/>
            <a:ext cx="77454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03640" y="18900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EBLI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765000"/>
            <a:ext cx="29509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Ebrei deportati a Treblinka dalla stazione di  Siedl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22 agosto  1942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to scattata di nascosto da un soldato austriaco, Hubert Pf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siedlce1.jpg (61858 bytes)"/>
          <p:cNvPicPr/>
          <p:nvPr/>
        </p:nvPicPr>
        <p:blipFill>
          <a:blip r:embed="rId1"/>
          <a:stretch/>
        </p:blipFill>
        <p:spPr>
          <a:xfrm>
            <a:off x="539640" y="331920"/>
            <a:ext cx="43372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obi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914400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BI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76500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a piccola collina formatasi con la cenere di circa 200.000-250.000 ebrei eliminati a Sobi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ahshes.jpg (58345 bytes)"/>
          <p:cNvPicPr/>
          <p:nvPr/>
        </p:nvPicPr>
        <p:blipFill>
          <a:blip r:embed="rId1"/>
          <a:stretch/>
        </p:blipFill>
        <p:spPr>
          <a:xfrm>
            <a:off x="771480" y="1760400"/>
            <a:ext cx="7601040" cy="4476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6920" y="6453360"/>
            <a:ext cx="76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inartz, Dirk;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Deathly Still - Pictures  of concentration camps,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p. 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2606400"/>
            <a:ext cx="727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ampi di stermi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480708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3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BI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087560"/>
            <a:ext cx="77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stazione di Sobi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ad, Yitzhak; The Pictorial History of the Holocaust, p. 2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station.jpg (38412 bytes)"/>
          <p:cNvPicPr/>
          <p:nvPr/>
        </p:nvPicPr>
        <p:blipFill>
          <a:blip r:embed="rId1"/>
          <a:stretch/>
        </p:blipFill>
        <p:spPr>
          <a:xfrm>
            <a:off x="1187280" y="1792440"/>
            <a:ext cx="669456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BI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015920"/>
            <a:ext cx="77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o smantellamento del campo di Sobi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87280" y="1700280"/>
            <a:ext cx="68374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elz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593640"/>
            <a:ext cx="914400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76500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gruppo di Rom prigionieri aspetta istruzioni in un’area aperta vicino al reticolato del campo di Belz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ves of Mechanical Documentation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24000" y="1866960"/>
            <a:ext cx="66610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765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a copia di  Rom prigionieri a Belz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6467400"/>
            <a:ext cx="68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Glowna Komisja Badania Zbrodni Przeciwko Narodowi Polskiemu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1805040"/>
            <a:ext cx="61549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765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casa del comandate di Belz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ves of Mechanical Documentation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50920" y="1700280"/>
            <a:ext cx="69501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765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e SS di stanza a Belzec davanti al coma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1649520"/>
            <a:ext cx="66978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765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a donna sta per essere uccisa a Belz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Leopold Page Photographic Col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99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76500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gruppo di ebrei appartenenti al Sonderkommando di Belzec.  La foto è del 1943 e dal momento che i trasporti si fermarono nel dicembre 1942, questo gruppo sta probabilmente esumando per poi cremarli i corpi dei 600.000 uccisi nel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ad, Yitzhak; The Pictorial History of the Holocaust, p. 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92120" y="2079720"/>
            <a:ext cx="64198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5040" cy="5122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1890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SISTEMA CONCENTRAZIONARIO E DI STER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5373720"/>
            <a:ext cx="718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285264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1916280"/>
            <a:ext cx="1800360" cy="217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256536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3645000"/>
            <a:ext cx="100800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465300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2276640"/>
            <a:ext cx="100836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386064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229360"/>
            <a:ext cx="136692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8720" y="5589720"/>
            <a:ext cx="100800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06064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3357720"/>
            <a:ext cx="71928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119700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3440" y="414972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270828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213000"/>
            <a:ext cx="10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4360" y="342900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414972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292572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4221000"/>
            <a:ext cx="1008360" cy="2160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3789360"/>
            <a:ext cx="1008000" cy="2160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557360"/>
            <a:ext cx="1800360" cy="2872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ajdan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Veduta aerea del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wum Panstwowego Muzeum na Majdan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67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e baracche di Majdanek viste dalla torretta di guar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6467400"/>
            <a:ext cx="66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Glowna Komisja Badania Zbrodni Przeciwko Narodowi Polskiemu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99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magazzino con contenitori di Zyklon B a Majdan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326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retro di una delle camere a gas di Majda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009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584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crematorio di Majda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4120" y="1125360"/>
            <a:ext cx="54957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forno crematorio di Majdanek dopo la liber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1720" y="1276200"/>
            <a:ext cx="5121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76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ivili polacchi ispezionano i forni crematori di Majdanek dopo la liber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wum Akt N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13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47640" y="1670040"/>
            <a:ext cx="5832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viene la conoscenza, viene anche a poco a poco il ricordo. Conoscenza e ricordo sono una sola e medesima co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S. Friedlander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 poco a poco il ricor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inaudi, Torino 19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NE – 3 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di Luciano Zappella -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h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Arial"/>
              </a:rPr>
              <a:t>łmno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- Kulmh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NO - KULM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2000" y="549360"/>
            <a:ext cx="8820000" cy="5315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5851440"/>
            <a:ext cx="80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campo di sterminio di Chelmno venne istituito per uccidere i 385.000 Ebrei del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Warthegau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(costituito dalla provincia polacca di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Poznan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e parti dei voivodati di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Bydgoszcz, Lodz, Pomorze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Varsavia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, annesse al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Reich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73080" y="765000"/>
            <a:ext cx="7199280" cy="4872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NO - KULM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5897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campo di sterminio di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Chelmno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(in tedesco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Kulmhof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 si trova 60 km a nord-ovest di Lodz e 14 km a sud-est di Kolo. I Nazisti scelsero a Chelmno una casa padronale vuota (chiamata il Castello: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foto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 per scopi di stermin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4997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515772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Chelmno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i nazisti sperimentarono la soppressione degli ebrei, stivati in camion appositamente attrezzati, a mezzo del gas del tubo di scappamento. Da un rapporto rinvenuto casualmente negli archivi della direzione centrale delle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SS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si legge testualmente  «nel giro di sei mesi tre di questi camion hanno "trattato" 97.000 "pezzi" senza inconvenienti di sorta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NO - KULM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Gas Van Of of the type used at Chelmno"/>
          <p:cNvPicPr/>
          <p:nvPr/>
        </p:nvPicPr>
        <p:blipFill>
          <a:blip r:embed="rId1"/>
          <a:stretch/>
        </p:blipFill>
        <p:spPr>
          <a:xfrm>
            <a:off x="684360" y="981000"/>
            <a:ext cx="395280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467160" cy="3524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4508640"/>
            <a:ext cx="39607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Sopra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: camion usati a Chelmno per gasare i prigionieri (</a:t>
            </a:r>
            <a:r>
              <a:rPr b="1" i="1" lang="it-IT" sz="2000" spc="-1" strike="noStrike">
                <a:solidFill>
                  <a:srgbClr val="000000"/>
                </a:solidFill>
                <a:latin typeface="Garamond"/>
              </a:rPr>
              <a:t>gaswagen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A destra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: un gruppo di ebrei in attesa di essere caricati sui </a:t>
            </a:r>
            <a:r>
              <a:rPr b="1" i="1" lang="it-IT" sz="2000" spc="-1" strike="noStrike">
                <a:solidFill>
                  <a:srgbClr val="000000"/>
                </a:solidFill>
                <a:latin typeface="Garamond"/>
              </a:rPr>
              <a:t>gaswagen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950080"/>
            <a:ext cx="35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, courtesy of USHMM Photo Archives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933720"/>
            <a:ext cx="39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© YIVO Institute for Jewish Research/United States Holocaust Memorial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Gas Van Interior 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086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NO - KULM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76500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nterno di un camion a gas (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gaswagen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6453360"/>
            <a:ext cx="61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ww.HolocaustResearchProjec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39:22Z</dcterms:created>
  <dc:creator>Zappella</dc:creator>
  <dc:description/>
  <dc:language>en-US</dc:language>
  <cp:lastModifiedBy>Zappella</cp:lastModifiedBy>
  <dcterms:modified xsi:type="dcterms:W3CDTF">2009-02-27T19:07:44Z</dcterms:modified>
  <cp:revision>26</cp:revision>
  <dc:subject/>
  <dc:title>Immagini dalla Shoah</dc:title>
</cp:coreProperties>
</file>