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5CF-86A3-4310-ABE2-490835C2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53E-D26C-4C24-9C79-ECFD775C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DF5-5060-4425-8360-2A6AEFD9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8CE-4308-4406-8475-9B72821B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965-D6F9-4F88-82B0-DEFE1148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AFC8-1960-4B9A-8079-E6DC4144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D16-40B3-4FFE-8DD2-E62B4532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142-885F-4379-9F96-AF8E5C8F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D9D-215D-48F5-BDB1-13C1ECB9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BBC-30EA-4288-AD18-C069BB1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CE5-033E-4FD9-96BB-E84B10C4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537-302F-426D-BF20-47B59116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BD5D-3686-40D1-990D-D82E0EF28EA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8.xml"/><Relationship Id="rId3" Type="http://schemas.openxmlformats.org/officeDocument/2006/relationships/slide" Target="slide6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4400"/>
            <a:ext cx="698508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Immagini dalla Sho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 gallery - Oswiecim Poland"/>
          <p:cNvPicPr/>
          <p:nvPr/>
        </p:nvPicPr>
        <p:blipFill>
          <a:blip r:embed="rId1"/>
          <a:stretch/>
        </p:blipFill>
        <p:spPr>
          <a:xfrm>
            <a:off x="1044720" y="1052640"/>
            <a:ext cx="7056360" cy="490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© Strykowski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 percorso fotografico a cura di Luciano Zappella – 4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87280" y="7650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l muro delle esecuzioni all’interno del Blocco 11 di Auschwitz I. La foto è stata scattata dopo la gu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5610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765000"/>
            <a:ext cx="68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’ingresso della camera a gas di Auschwitz I. Fu usata per breve tempo prima di essere convertita in un deposito di bombe. Sullo sfondo l’edificio del quartiere regionale della Gestap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646740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Glowna Komisja Badania Zbrodni Przeciwko Narodowi Polskiemu,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95440" y="1865160"/>
            <a:ext cx="61722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76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tografia aerea del campo di Auschwitz I scattata il 4 aprile 19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521320" cy="437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08640"/>
            <a:ext cx="40968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64720" cy="6742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16000" y="6381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gresso al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050920" y="580500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Birkenau aerial photo — summer 19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2843280" y="602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276640"/>
            <a:ext cx="504720" cy="57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433600"/>
            <a:ext cx="11527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Crematorio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56000" y="2205000"/>
            <a:ext cx="504720" cy="576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1859040"/>
            <a:ext cx="12956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Crematorio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1052640"/>
            <a:ext cx="576360" cy="576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43280" y="1197000"/>
            <a:ext cx="129528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Zentralsau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90000">
            <a:off x="4429080" y="2577600"/>
            <a:ext cx="7905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K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1341360"/>
            <a:ext cx="43344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16360" y="1844640"/>
            <a:ext cx="12225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Crematorio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80000" y="1268280"/>
            <a:ext cx="43344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12000" y="1268280"/>
            <a:ext cx="12952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rematorio V; si vede il fu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62560" y="476280"/>
            <a:ext cx="43344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620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unk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10560" y="1844640"/>
            <a:ext cx="43344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155736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unk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1363000">
            <a:off x="1042920" y="4581000"/>
            <a:ext cx="1584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ampo femmi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08720" y="6539040"/>
            <a:ext cx="1584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Kommandant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6323040"/>
            <a:ext cx="432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6033960"/>
            <a:ext cx="43164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5661000"/>
            <a:ext cx="50328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1246600">
            <a:off x="3276720" y="4292640"/>
            <a:ext cx="158436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Lagerstrass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002600">
            <a:off x="5420520" y="3575160"/>
            <a:ext cx="13129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Lagerstras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5689400">
            <a:off x="2188800" y="3650760"/>
            <a:ext cx="115272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Arial"/>
              </a:rPr>
              <a:t>Bahnram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6524640"/>
            <a:ext cx="1440000" cy="27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orre princip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0" y="44280"/>
            <a:ext cx="3743280" cy="52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otografia aerea di Birkenau – estate 19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340000" y="2565000"/>
            <a:ext cx="216000" cy="1655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49228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 - BIRKEN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200" y="765000"/>
            <a:ext cx="77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Judenrampe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(banchina degli ebrei) da dove gli ebrei venivano scaricati. Sullo sfondo l’ingresso principale del campo, chiamato “Porta della mor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wum Państwowego Muzeum Auschwitz-Birken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The gate in Birkenau"/>
          <p:cNvPicPr/>
          <p:nvPr/>
        </p:nvPicPr>
        <p:blipFill>
          <a:blip r:embed="rId1"/>
          <a:stretch/>
        </p:blipFill>
        <p:spPr>
          <a:xfrm>
            <a:off x="1619280" y="1720800"/>
            <a:ext cx="59086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 - BIRKEN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765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fotogramma del documentario "Cronaca della liberazione del KL Auschwitz" girato dai cameramen dell’esercito sovie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Birkenau — aerial view"/>
          <p:cNvPicPr/>
          <p:nvPr/>
        </p:nvPicPr>
        <p:blipFill>
          <a:blip r:embed="rId1"/>
          <a:stretch/>
        </p:blipFill>
        <p:spPr>
          <a:xfrm>
            <a:off x="1258920" y="1719360"/>
            <a:ext cx="67039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 - BIRKEN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000" y="76500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a parte del Settore BII di Birkenau, con le baracche di  legno appena costruite. Foto scattata dalle SS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Sector BII"/>
          <p:cNvPicPr/>
          <p:nvPr/>
        </p:nvPicPr>
        <p:blipFill>
          <a:blip r:embed="rId1"/>
          <a:stretch/>
        </p:blipFill>
        <p:spPr>
          <a:xfrm>
            <a:off x="1128600" y="1719360"/>
            <a:ext cx="6899400" cy="4373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08640"/>
            <a:ext cx="40968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28720" y="884160"/>
            <a:ext cx="77756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Auschwitz III 1944 aerial reconnaisance"/>
          <p:cNvPicPr/>
          <p:nvPr/>
        </p:nvPicPr>
        <p:blipFill>
          <a:blip r:embed="rId1"/>
          <a:stretch/>
        </p:blipFill>
        <p:spPr>
          <a:xfrm>
            <a:off x="952560" y="523800"/>
            <a:ext cx="7238880" cy="58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42920" y="115920"/>
            <a:ext cx="7129440" cy="65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Shema’ </a:t>
            </a:r>
            <a:br>
              <a:rPr sz="1700"/>
            </a:b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Voi che vivete sicuri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Nelle vostre tiepide cas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Voi che trovate tornando a sera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Il cibo caldo e visi amici: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nsiderate se questo è un uomo,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he lavora nel fango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he non conosce pac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he lotta per mezzo pan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he muore per un sì o per un no.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nsiderate se questa è una donna,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Senza capelli e senza nom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Senza più forza di ricordar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Vuoti gli occhi e freddo il grembo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me una rana d’inverno.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Meditate che questo è stato: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Vi comando queste parole.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Scolpitele nel vostro cuore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Stando in casa andando per via,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ricandovi alzandovi: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Ripetetele ai vostri figli.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O vi si sfaccia la casa,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La malattia vi impedisca, </a:t>
            </a: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I vostri nati torcano il viso da voi.</a:t>
            </a:r>
            <a:r>
              <a:rPr b="0" lang="it-IT" sz="1700" spc="-1" strike="noStrike">
                <a:solidFill>
                  <a:srgbClr val="000000"/>
                </a:solidFill>
                <a:latin typeface="Arial"/>
              </a:rPr>
              <a:t>         (Primo Levi, 10 gennaio 19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859280" y="18900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I – MONOWI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137628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Officine Buna a Monowitz, di proprietà della IG Far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foto è del 19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6467400"/>
            <a:ext cx="41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IG Farben"/>
          <p:cNvPicPr/>
          <p:nvPr/>
        </p:nvPicPr>
        <p:blipFill>
          <a:blip r:embed="rId1"/>
          <a:stretch/>
        </p:blipFill>
        <p:spPr>
          <a:xfrm>
            <a:off x="539640" y="189000"/>
            <a:ext cx="4343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I - MONOWI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8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mpianti di produzione della  IG Farben a Monowi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IG Farben"/>
          <p:cNvPicPr/>
          <p:nvPr/>
        </p:nvPicPr>
        <p:blipFill>
          <a:blip r:embed="rId1"/>
          <a:stretch/>
        </p:blipFill>
        <p:spPr>
          <a:xfrm>
            <a:off x="1476360" y="1773360"/>
            <a:ext cx="61102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I - MONOWI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60360" y="782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Reichsführer delle SS Heinrich Himmler ispeziona Monowitz, nel luglio  194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00200" y="1793880"/>
            <a:ext cx="599616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II - MONOWIT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Prigionieri al lavoro a Monowi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614600" y="1503360"/>
            <a:ext cx="5981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7640" y="1670040"/>
            <a:ext cx="5832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viene la conoscenza, viene anche a poco a poco il ricordo. Conoscenza e ricordo sono una sola e medesima co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S. Friedlander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 poco a poco il ricor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inaudi, Torino 19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NE – 4 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di Luciano Zappella -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5040" cy="5122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4000" y="1890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SISTEMA CONCENTRAZIONARIO E DI STER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5373720"/>
            <a:ext cx="718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65440" y="285264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1916280"/>
            <a:ext cx="1800360" cy="217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256536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3645000"/>
            <a:ext cx="100800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87640" y="465300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276640"/>
            <a:ext cx="100836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386064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229360"/>
            <a:ext cx="136692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8720" y="5589720"/>
            <a:ext cx="100800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06064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3357720"/>
            <a:ext cx="71928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119700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73440" y="414972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270828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3213000"/>
            <a:ext cx="10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342900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414972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4000" y="292572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4221000"/>
            <a:ext cx="1008360" cy="2160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3789360"/>
            <a:ext cx="1008000" cy="2160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48360" y="1557360"/>
            <a:ext cx="1800360" cy="2872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chwitz – Birken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5280" y="888840"/>
            <a:ext cx="8424720" cy="5123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COMPLESSO DI AUSCHW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7093080" y="4221000"/>
            <a:ext cx="15112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2484360" y="4221000"/>
            <a:ext cx="17272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1258920" y="3141720"/>
            <a:ext cx="15112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623736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ca sui cerchi per acced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0240" y="907920"/>
            <a:ext cx="5610240" cy="590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80000" y="189000"/>
            <a:ext cx="3384720" cy="63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Villa del comandante del campo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Case della guarnigione del campo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Uffici del comandante del campo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Uffici dell'amministrazione del campo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Ospedale delle SS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Uffici della Sezione politica (Gestapo)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Registrazione dei nuovi prigionieri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Cancello di ingresso con la scritta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Arbeit macht fre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K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Camera a gas e crematorio I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Magazzini per gli oggetti depredati ai deportati e luogo di custodia del gas Zyklon B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Pozzi per i cadaveri e luoghi di esecuzioni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Luogo dove suonava l'orchestra del campo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Posto di guardia delle SS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Il muro nero, dove venivano uccisi i prigionieri tramite fucilazione o con un colpo di pistola alla nuca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1-28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Baracche dei prigionieri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Blocco della morte, dove risiedeva il Sonderkommando del crematorio I e dove erano detenute le persone prima dell'uccisione </a:t>
            </a:r>
            <a:br>
              <a:rPr sz="1400"/>
            </a:b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-Blocco di medicina sperimentale, dove il dott.Clauberg sperimentava sui detenuti la sterilizz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89000"/>
            <a:ext cx="43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 - mapp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7640" y="191628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41800" y="5516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50846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47800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39877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312408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1800" y="370044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5800" y="240336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3440" y="261936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68720" y="326880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916440"/>
            <a:ext cx="35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653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25480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319572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4924440"/>
            <a:ext cx="358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7650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’ingresso principale di Auschwitz I, con la famigerata scritta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“Arbeit mach frei”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(il lavoro rende liberi). La foto è stata scattata dopo la gu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The "/>
          <p:cNvPicPr/>
          <p:nvPr/>
        </p:nvPicPr>
        <p:blipFill>
          <a:blip r:embed="rId1"/>
          <a:stretch/>
        </p:blipFill>
        <p:spPr>
          <a:xfrm>
            <a:off x="1190520" y="1649520"/>
            <a:ext cx="67662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765000"/>
            <a:ext cx="62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a strada del campo di Auschwitz I, con una fila di pioppi. La foto è stata scattata dalle 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Auschwitz I"/>
          <p:cNvPicPr/>
          <p:nvPr/>
        </p:nvPicPr>
        <p:blipFill>
          <a:blip r:embed="rId1"/>
          <a:stretch/>
        </p:blipFill>
        <p:spPr>
          <a:xfrm>
            <a:off x="996840" y="1649520"/>
            <a:ext cx="71755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USCHWITZ 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76500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l blocco 11 di Auschwitz I, prigione del campo chiamata “Blocco della mor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uschwitz-Birkenau State Museum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Block 11"/>
          <p:cNvPicPr/>
          <p:nvPr/>
        </p:nvPicPr>
        <p:blipFill>
          <a:blip r:embed="rId1"/>
          <a:stretch/>
        </p:blipFill>
        <p:spPr>
          <a:xfrm>
            <a:off x="1476360" y="1649520"/>
            <a:ext cx="62182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39:22Z</dcterms:created>
  <dc:creator>Zappella</dc:creator>
  <dc:description/>
  <dc:language>en-US</dc:language>
  <cp:lastModifiedBy>Zappella</cp:lastModifiedBy>
  <dcterms:modified xsi:type="dcterms:W3CDTF">2009-02-27T19:13:06Z</dcterms:modified>
  <cp:revision>26</cp:revision>
  <dc:subject/>
  <dc:title>Immagini dalla Shoah</dc:title>
</cp:coreProperties>
</file>