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E13-C8F7-4588-84ED-E29A1D8A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CCB-4D01-4AFF-8B6C-9E77663A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EA0-A48F-4FA9-9AF4-1FF91669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536-340E-4D8D-BF29-2DBF1528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7B4-4A40-4836-8C1F-611E654E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107-D90C-4995-BA09-D74BBD77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0BD-02CF-4663-9CF3-A22B9966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E50-5EBC-4C63-92EA-001404A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70E9-9044-485F-B865-05DF02CA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C93-5C08-44CE-BD02-E8304B1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FC7-D0F7-4516-80B0-E1B88B52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E1C-8558-4470-986B-E6D0C6D5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C59F-E2E3-4E29-9E82-E01FFACB58F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– 5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800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Krematorium IV e relativa camera a gas. Foto scattata dalle SS nel 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Crematory IV"/>
          <p:cNvPicPr/>
          <p:nvPr/>
        </p:nvPicPr>
        <p:blipFill>
          <a:blip r:embed="rId1"/>
          <a:stretch/>
        </p:blipFill>
        <p:spPr>
          <a:xfrm>
            <a:off x="1476360" y="1557360"/>
            <a:ext cx="6203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Krematorium V nel bosco delle betu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Krema 5"/>
          <p:cNvPicPr/>
          <p:nvPr/>
        </p:nvPicPr>
        <p:blipFill>
          <a:blip r:embed="rId1"/>
          <a:stretch/>
        </p:blipFill>
        <p:spPr>
          <a:xfrm>
            <a:off x="1547640" y="1341360"/>
            <a:ext cx="60962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19160" y="166176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19160" y="4858560"/>
            <a:ext cx="2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812880"/>
            <a:ext cx="8329680" cy="2471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464000" cy="299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37893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icostruzione digitale del Krematorium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95008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: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Destinazione Auschwitz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Proedi Ed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8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esti dello spogliatoio del Krematorium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to: Itis Einstein - 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09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esti del Krematorium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to: Itis Einstein - 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97160" y="1258920"/>
            <a:ext cx="6349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esti dell’ingresso allo spogliatoio del Krematorium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to: Itis Einstein - 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97160" y="126828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esti dello  spogliatoio del Krematorium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to: Itis Einstein - 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97160" y="126828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912960"/>
            <a:ext cx="7777080" cy="522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L CAMPO DI AUSCHWITZ BIRKENAU O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kenau: le pers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2560" y="76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rrivo a Birkenau sulla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Judenrampe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; gli ebrei vengono fatti scendere dal treno e avviati alla selezione. Cerchiati in rosso il Krematorium II e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09840" y="1720800"/>
            <a:ext cx="61578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kenau: gli strument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lo stermi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7650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Deportati sulla rampa; sulla sinistra si vede la fila di quelli avviati alla camera a gas che stanno camminando verso il Krematorium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7240" y="1577880"/>
            <a:ext cx="66578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7650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a foto raffigura il momento della sele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li uomini vengono avviati da una parte, le donne e i bambini dall’al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201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7650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a foto raffigura il momento della sele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li uomini vengono avviati da una parte, le donne e i bambini dall’al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576440"/>
            <a:ext cx="59230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76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onne e bambini ebrei ungheresi vengono avviati alle camere a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4054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12000" y="1890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1557360"/>
            <a:ext cx="201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 scattata illegalmente dai membri del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Sonderkommando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nel 194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Si possono vedere alcune donne condotte dalle SS in una delle camere a gas di Birken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Women driven to gas chambers"/>
          <p:cNvPicPr/>
          <p:nvPr/>
        </p:nvPicPr>
        <p:blipFill>
          <a:blip r:embed="rId1"/>
          <a:stretch/>
        </p:blipFill>
        <p:spPr>
          <a:xfrm>
            <a:off x="231840" y="271440"/>
            <a:ext cx="5276880" cy="6181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659772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6524640"/>
            <a:ext cx="52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189000"/>
            <a:ext cx="86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765000"/>
            <a:ext cx="158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 scattate illegalmente dai membri del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Sonder-komm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nel 1944. Mostrano la cremazione all’aperto di cadaveri nel campo di sterminio di Birken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659772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5661000"/>
            <a:ext cx="1295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Burning of bodies"/>
          <p:cNvPicPr/>
          <p:nvPr/>
        </p:nvPicPr>
        <p:blipFill>
          <a:blip r:embed="rId1"/>
          <a:stretch/>
        </p:blipFill>
        <p:spPr>
          <a:xfrm>
            <a:off x="-11160" y="693720"/>
            <a:ext cx="3791160" cy="619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Burning of bodies"/>
          <p:cNvPicPr/>
          <p:nvPr/>
        </p:nvPicPr>
        <p:blipFill>
          <a:blip r:embed="rId2"/>
          <a:stretch/>
        </p:blipFill>
        <p:spPr>
          <a:xfrm>
            <a:off x="3774960" y="693720"/>
            <a:ext cx="36766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7650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grafia scattata subito dopo la partenza dei nazisti da Auschwitz-Birkenau. Sacchi di capelli pronti per essere spediti in Germ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5786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765000"/>
            <a:ext cx="62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 magazzino pieno di scarpe e vestiti confiscati alle vittime delle camere a gas subito dopo il loro arri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65280" y="1720800"/>
            <a:ext cx="60310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4720" y="765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a pila di scialli da preghiera (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tallit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, tipici della tradizione ebraica, confiscati ai prigionieri e conservati nei magazzini di Auschwit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881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800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 magazzino ad Auschwitz ricolmo di vestiti confiscati ai prigioni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786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8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 del Krematorium II scattata dalle SS nel 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Crematory II"/>
          <p:cNvPicPr/>
          <p:nvPr/>
        </p:nvPicPr>
        <p:blipFill>
          <a:blip r:embed="rId1"/>
          <a:stretch/>
        </p:blipFill>
        <p:spPr>
          <a:xfrm>
            <a:off x="1116000" y="1503360"/>
            <a:ext cx="69501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76500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Krematorium II bombardato dai nazisti poco prima della liberazione del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3040" y="1628640"/>
            <a:ext cx="64389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76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rni crematori del Krematorium II. Foto scattata dalle SS nel giugno 1943 prima che terminasse la costru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urnace room in crematory II"/>
          <p:cNvPicPr/>
          <p:nvPr/>
        </p:nvPicPr>
        <p:blipFill>
          <a:blip r:embed="rId1"/>
          <a:stretch/>
        </p:blipFill>
        <p:spPr>
          <a:xfrm>
            <a:off x="1476360" y="1719360"/>
            <a:ext cx="61009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76500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struzione del Krematorium III e relativa camera a gas. Foto scattata dalle 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Building of crematory III"/>
          <p:cNvPicPr/>
          <p:nvPr/>
        </p:nvPicPr>
        <p:blipFill>
          <a:blip r:embed="rId1"/>
          <a:stretch/>
        </p:blipFill>
        <p:spPr>
          <a:xfrm>
            <a:off x="1042920" y="1577880"/>
            <a:ext cx="7121520" cy="43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8715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’edificio  del Krematorium III. Foto scattata dalle 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rematory III"/>
          <p:cNvPicPr/>
          <p:nvPr/>
        </p:nvPicPr>
        <p:blipFill>
          <a:blip r:embed="rId1"/>
          <a:stretch/>
        </p:blipFill>
        <p:spPr>
          <a:xfrm>
            <a:off x="1332000" y="1649520"/>
            <a:ext cx="6592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836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struzione del Krematorium IV. Foto scattata dalle SS nel 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Crematory IV"/>
          <p:cNvPicPr/>
          <p:nvPr/>
        </p:nvPicPr>
        <p:blipFill>
          <a:blip r:embed="rId1"/>
          <a:stretch/>
        </p:blipFill>
        <p:spPr>
          <a:xfrm>
            <a:off x="1042920" y="1628640"/>
            <a:ext cx="70898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8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struzione del Krematorium IV. Foto scattata dalle SS nel 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rematory IV"/>
          <p:cNvPicPr/>
          <p:nvPr/>
        </p:nvPicPr>
        <p:blipFill>
          <a:blip r:embed="rId1"/>
          <a:stretch/>
        </p:blipFill>
        <p:spPr>
          <a:xfrm>
            <a:off x="1042920" y="1523880"/>
            <a:ext cx="71042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7T19:15:41Z</dcterms:modified>
  <cp:revision>26</cp:revision>
  <dc:subject/>
  <dc:title>Immagini dalla Shoah</dc:title>
</cp:coreProperties>
</file>