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1C75-B4C2-4622-832E-27C79077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D72-696B-4B6F-812F-3FD6D0E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977-C39C-4F7B-B024-D8F0FCC4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767E-3E17-47D8-A604-570E37CA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F1E-6B2F-4751-8C02-6563B44F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F565-A26A-49F6-85D3-CD689C3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F02-8A21-425E-9B84-FD81376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8B8-CABD-4133-9EB4-20B4238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38A7-EF95-4EE9-8AD5-CBFD9BFE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C40-C583-4605-8776-6F538725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798-F1A5-47FE-81C0-F3325D66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E1C-E7AD-4D26-B9DE-C1493C3E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06B-9F92-4035-8A84-3E0DBDF1349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5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800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Krematorium IV e relativa camera a gas. Foto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Crematory IV"/>
          <p:cNvPicPr/>
          <p:nvPr/>
        </p:nvPicPr>
        <p:blipFill>
          <a:blip r:embed="rId1"/>
          <a:stretch/>
        </p:blipFill>
        <p:spPr>
          <a:xfrm>
            <a:off x="1476360" y="1557360"/>
            <a:ext cx="6203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Krematorium V nel bosco delle betu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Krema 5"/>
          <p:cNvPicPr/>
          <p:nvPr/>
        </p:nvPicPr>
        <p:blipFill>
          <a:blip r:embed="rId1"/>
          <a:stretch/>
        </p:blipFill>
        <p:spPr>
          <a:xfrm>
            <a:off x="1547640" y="1341360"/>
            <a:ext cx="60962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19160" y="166176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19160" y="4858560"/>
            <a:ext cx="2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812880"/>
            <a:ext cx="8329680" cy="2471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464000" cy="2990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378936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icostruzione digitale del Krematorium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950080"/>
            <a:ext cx="36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: 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Destinazione Auschwitz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Proedi Ed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lo spogliatoio del Krematorium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0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 Krematorium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97160" y="1258920"/>
            <a:ext cx="6349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l’ingresso allo spogliatoio del Krematorium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97160" y="126828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Resti dello  spogliatoio del Krematorium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Foto: Itis Einstein - R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97160" y="1268280"/>
            <a:ext cx="63496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912960"/>
            <a:ext cx="7777080" cy="5225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L CAMPO DI AUSCHWITZ BIRKENAU OGG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kenau: le pers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2560" y="76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rrivo a Birkenau sulla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Judenrampe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; gli ebrei vengono fatti scendere dal treno e avviati alla selezione. Cerchiati in rosso il Krematorium II e 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09840" y="1720800"/>
            <a:ext cx="61578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kenau: gli strument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lo ster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76500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eportati sulla rampa; sulla sinistra si vede la fila di quelli avviati alla camera a gas che stanno camminando verso il Krematorium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7240" y="1577880"/>
            <a:ext cx="66578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 foto raffigura il momento della sele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li uomini vengono avviati da una parte, le donne e i bambini dall’al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2010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 foto raffigura il momento della sele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li uomini vengono avviati da una parte, le donne e i bambini dall’al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576440"/>
            <a:ext cx="5923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onne e bambini ebrei ungheresi vengono avviati alle camere a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4054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12000" y="1890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1557360"/>
            <a:ext cx="2016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scattata illegalmente dai membri de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Sonderkommando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nel 194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Si possono vedere alcune donne condotte dalle SS in una delle camere a gas di Birken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Women driven to gas chambers"/>
          <p:cNvPicPr/>
          <p:nvPr/>
        </p:nvPicPr>
        <p:blipFill>
          <a:blip r:embed="rId1"/>
          <a:stretch/>
        </p:blipFill>
        <p:spPr>
          <a:xfrm>
            <a:off x="231840" y="271440"/>
            <a:ext cx="5276880" cy="6181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9640" y="659772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6524640"/>
            <a:ext cx="52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189000"/>
            <a:ext cx="864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765000"/>
            <a:ext cx="158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scattate illegalmente dai membri de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Sonder-komm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nel 1944. Mostrano la cremazione all’aperto di cadaveri nel campo di sterminio di Birken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659772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5661000"/>
            <a:ext cx="1295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Burning of bodies"/>
          <p:cNvPicPr/>
          <p:nvPr/>
        </p:nvPicPr>
        <p:blipFill>
          <a:blip r:embed="rId1"/>
          <a:stretch/>
        </p:blipFill>
        <p:spPr>
          <a:xfrm>
            <a:off x="-11160" y="693720"/>
            <a:ext cx="3791160" cy="61912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Burning of bodies"/>
          <p:cNvPicPr/>
          <p:nvPr/>
        </p:nvPicPr>
        <p:blipFill>
          <a:blip r:embed="rId2"/>
          <a:stretch/>
        </p:blipFill>
        <p:spPr>
          <a:xfrm>
            <a:off x="3774960" y="693720"/>
            <a:ext cx="36766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grafia scattata subito dopo la partenza dei nazisti da Auschwitz-Birkenau. Sacchi di capelli pronti per essere spediti in Germ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5786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765000"/>
            <a:ext cx="626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 magazzino pieno di scarpe e vestiti confiscati alle vittime delle camere a gas subito dopo il loro arriv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5280" y="1720800"/>
            <a:ext cx="60310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4720" y="765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pila di scialli da preghiera (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tallit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, tipici della tradizione ebraica, confiscati ai prigionieri e conservati nei magazzini di Auschwit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881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80028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 magazzino ad Auschwitz ricolmo di vestiti confiscati ai prigioni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5786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del Krematorium II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Crematory II"/>
          <p:cNvPicPr/>
          <p:nvPr/>
        </p:nvPicPr>
        <p:blipFill>
          <a:blip r:embed="rId1"/>
          <a:stretch/>
        </p:blipFill>
        <p:spPr>
          <a:xfrm>
            <a:off x="1116000" y="1503360"/>
            <a:ext cx="6950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LE PERS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765000"/>
            <a:ext cx="48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Krematorium II bombardato dai nazisti poco prima della liberazione de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3040" y="1628640"/>
            <a:ext cx="64389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rni crematori del Krematorium II. Foto scattata dalle SS nel giugno 1943 prima che terminasse la costru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Furnace room in crematory II"/>
          <p:cNvPicPr/>
          <p:nvPr/>
        </p:nvPicPr>
        <p:blipFill>
          <a:blip r:embed="rId1"/>
          <a:stretch/>
        </p:blipFill>
        <p:spPr>
          <a:xfrm>
            <a:off x="1476360" y="1719360"/>
            <a:ext cx="6100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7650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struzione del Krematorium III e relativa camera a gas. Foto scattata dalle 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Building of crematory III"/>
          <p:cNvPicPr/>
          <p:nvPr/>
        </p:nvPicPr>
        <p:blipFill>
          <a:blip r:embed="rId1"/>
          <a:stretch/>
        </p:blipFill>
        <p:spPr>
          <a:xfrm>
            <a:off x="1042920" y="1577880"/>
            <a:ext cx="7121520" cy="43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8715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’edificio  del Krematorium III. Foto scattata dalle 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Crematory III"/>
          <p:cNvPicPr/>
          <p:nvPr/>
        </p:nvPicPr>
        <p:blipFill>
          <a:blip r:embed="rId1"/>
          <a:stretch/>
        </p:blipFill>
        <p:spPr>
          <a:xfrm>
            <a:off x="1332000" y="1649520"/>
            <a:ext cx="6592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836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struzione del Krematorium IV. Foto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Crematory IV"/>
          <p:cNvPicPr/>
          <p:nvPr/>
        </p:nvPicPr>
        <p:blipFill>
          <a:blip r:embed="rId1"/>
          <a:stretch/>
        </p:blipFill>
        <p:spPr>
          <a:xfrm>
            <a:off x="1042920" y="1628640"/>
            <a:ext cx="70898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IRKENAU – GLI STRUMENTI DELLO STERMI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struzione del Krematorium IV. Foto scattata dalle SS nel 194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6093000"/>
            <a:ext cx="712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Crematory IV"/>
          <p:cNvPicPr/>
          <p:nvPr/>
        </p:nvPicPr>
        <p:blipFill>
          <a:blip r:embed="rId1"/>
          <a:stretch/>
        </p:blipFill>
        <p:spPr>
          <a:xfrm>
            <a:off x="1042920" y="1523880"/>
            <a:ext cx="71042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15:41Z</dcterms:modified>
  <cp:revision>26</cp:revision>
  <dc:subject/>
  <dc:title>Immagini dalla Shoah</dc:title>
</cp:coreProperties>
</file>