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F78-8B13-4B65-A9A3-80328CFA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02B-5EF2-4008-B69F-993F9288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C45-26AD-4EB9-9964-E5FECCE5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999-67B7-43A2-95DF-6CAB573D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FF7C-BDE2-4D0E-93B8-0859A436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974-F83A-4446-9595-0DA1C2E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F04-EE21-4CDB-9CE7-995A758F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75E-745C-4DD3-A6A1-6AA7D0A5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03B7-77C9-4720-ABD4-34197A3D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6E9-4DFD-4C70-9D40-FC6F48D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D6F4-94CB-4857-A61C-807D8302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E72F-8FE9-4F44-AA0C-87062C6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5F2C-9B28-46F2-BDFC-AC6076B34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" Target="slide4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838080" y="287280"/>
            <a:ext cx="7543800" cy="4361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5291280"/>
            <a:ext cx="244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4876920"/>
            <a:ext cx="761976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663300"/>
                </a:solidFill>
                <a:latin typeface="Tempus Sans ITC"/>
              </a:rPr>
              <a:t>LE MAGISTRATURE NELLA ROMA REPUBBLI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Tahoma"/>
              </a:rPr>
              <a:t>Anno scolastico 2005-2006 - www.luzappy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609480"/>
            <a:ext cx="4724640" cy="138888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  <a:effectLst>
            <a:outerShdw dist="17819" dir="2700000" blurRad="0" rotWithShape="0">
              <a:srgbClr val="3c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SENATO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Tahom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 MEMBRI  A V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133720"/>
            <a:ext cx="4495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NTROLLO VITA PUBBLICA E AMMINISTRAZIONE DELLO 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3429000"/>
            <a:ext cx="0" cy="12193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4800600"/>
            <a:ext cx="2133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DITT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562720"/>
            <a:ext cx="6705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TTO IN CASO DI PERICOLO PER LO STATO (6 ME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rrowRigh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05920" y="1676520"/>
            <a:ext cx="285480" cy="285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3032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g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rrowRight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533520"/>
            <a:ext cx="8153280" cy="1625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SEN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0 membri a vi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30 curie; ogni curia 10 sena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153280" cy="4617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Potere consultivo, ma vinco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Ratifica le delibere dei comizi (assemble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Controllo delle sp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Amministrazione dei rifornimenti aliment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Assegnazione dell’</a:t>
            </a:r>
            <a:r>
              <a:rPr b="1" i="1" lang="it-IT" sz="2800" spc="-1" strike="noStrike">
                <a:solidFill>
                  <a:srgbClr val="000000"/>
                </a:solidFill>
                <a:latin typeface="Tempus Sans ITC"/>
              </a:rPr>
              <a:t>ager publi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empus Sans ITC"/>
              </a:rPr>
              <a:t>Stipula dei patti di alleanza e trattati di 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rrowLef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6324480"/>
            <a:ext cx="342720" cy="3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380880"/>
            <a:ext cx="32004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empus Sans ITC"/>
              </a:rPr>
              <a:t>ASSEMB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90720"/>
            <a:ext cx="838080" cy="121896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990720"/>
            <a:ext cx="0" cy="365760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990720"/>
            <a:ext cx="838080" cy="1143000"/>
          </a:xfrm>
          <a:prstGeom prst="line">
            <a:avLst/>
          </a:prstGeom>
          <a:ln w="255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86000"/>
            <a:ext cx="2971800" cy="2143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curie. Competenze religiose e danno il comando ai magistrati el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724280"/>
            <a:ext cx="3733920" cy="153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ENT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centurie secondo il censo. Ogni centuria ha un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209680"/>
            <a:ext cx="2895840" cy="153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tribù territo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5120" y="533520"/>
            <a:ext cx="5333760" cy="12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TRIB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Tutti i cittadini riuniti in tribù territor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22860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QUES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2860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ED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3505320"/>
            <a:ext cx="0" cy="1218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800600"/>
            <a:ext cx="289548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CUSTODISCONO TESORO STATO RISCUOTONO TAS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3505320"/>
            <a:ext cx="0" cy="129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876920"/>
            <a:ext cx="259092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SOVRINTENDONO LAVORI PUBBLI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144792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289548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TRIBU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PLE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11480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4800600"/>
            <a:ext cx="1600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1912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533520"/>
            <a:ext cx="7772400" cy="122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empus Sans ITC"/>
              </a:rPr>
              <a:t>COMIZI CENTUR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tti i cittadini riuniti in centurie secondo il censo. Ogni centuria ha un v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828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3800" y="1828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828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51460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PRE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514600"/>
            <a:ext cx="236196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CENS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24480" y="2438280"/>
            <a:ext cx="2362320" cy="1219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</a:rPr>
              <a:t>CONS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73392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73392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0120" y="3657600"/>
            <a:ext cx="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572000"/>
            <a:ext cx="2362320" cy="1008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AMMINISTRANO GIUSTI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4594320"/>
            <a:ext cx="3200400" cy="1789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8 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ENS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APPAL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ONTROLLO M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4572000"/>
            <a:ext cx="2286000" cy="1472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1 AN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mpus Sans ITC"/>
              </a:rPr>
              <a:t>CAPI DI STATO POTERE CIVILE E MI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rrowRight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00960" y="63435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28954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empus Sans ITC"/>
              </a:rPr>
              <a:t>F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7:18:49Z</dcterms:created>
  <dc:creator>Administrator</dc:creator>
  <dc:description/>
  <dc:language>en-US</dc:language>
  <cp:lastModifiedBy>Zappella</cp:lastModifiedBy>
  <dcterms:modified xsi:type="dcterms:W3CDTF">2005-08-30T15:40:08Z</dcterms:modified>
  <cp:revision>11</cp:revision>
  <dc:subject/>
  <dc:title>Presentazione di PowerPoint</dc:title>
</cp:coreProperties>
</file>