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66C-4F00-46A1-8A94-3F961934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502-DEDC-4B40-A7E5-263D06A0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90D-94E8-43FF-9EE6-673DFCC9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BCA-231A-4EFC-8306-464319AE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5ED-F509-4ADA-93AB-B6B65A39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652-40D6-4720-9D30-5D4741F0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010-F48A-4253-A5C3-E973F722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6D8-9696-4D85-BB4A-BFC892A0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CEC4-410F-466B-B15A-687DF9B8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979-3DFD-45BF-9619-F2F84AA4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1E0E-170C-4B0A-BAE8-E56F6BEF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271C-97B3-40B5-8764-7DECFD00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026A-50B7-4F90-84BC-8F6E00993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838080" y="287280"/>
            <a:ext cx="7543800" cy="4361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5291280"/>
            <a:ext cx="244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4876920"/>
            <a:ext cx="761976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3300"/>
                </a:solidFill>
                <a:latin typeface="Tempus Sans ITC"/>
              </a:rPr>
              <a:t>LE MAGISTRATURE NELLA ROMA REPUBBLIC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0000"/>
                </a:solidFill>
                <a:latin typeface="Tahoma"/>
              </a:rPr>
              <a:t>Anno scolastico 2005-2006 - www.luzappy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09680" y="609480"/>
            <a:ext cx="4724640" cy="1388880"/>
          </a:xfrm>
          <a:prstGeom prst="rect">
            <a:avLst/>
          </a:prstGeom>
          <a:noFill/>
          <a:ln w="38160">
            <a:solidFill>
              <a:srgbClr val="663300"/>
            </a:solidFill>
            <a:miter/>
          </a:ln>
          <a:effectLst>
            <a:outerShdw dist="17819" dir="2700000" blurRad="0" rotWithShape="0">
              <a:srgbClr val="3c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empus Sans ITC"/>
              </a:rPr>
              <a:t>SENATO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00 MEMBRI  A V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133720"/>
            <a:ext cx="4495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NTROLLO VITA PUBBLICA E AMMINISTRAZIONE DELLO S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429000"/>
            <a:ext cx="0" cy="12193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4800600"/>
            <a:ext cx="21333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empus Sans ITC"/>
              </a:rPr>
              <a:t>DITTA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5562720"/>
            <a:ext cx="6705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ETTO IN CASO DI PERICOLO PER LO STATO (6 MES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rrowRight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05920" y="1676520"/>
            <a:ext cx="285480" cy="285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38480" y="3032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g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rrowRight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00960" y="61912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533520"/>
            <a:ext cx="8153280" cy="1625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empus Sans ITC"/>
              </a:rPr>
              <a:t>SENA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00 membri a vit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0 curie; ogni curia 10 senato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286000"/>
            <a:ext cx="8153280" cy="4617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Potere consultivo, ma vincol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Ratifica le delibere dei comizi (assembl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Controllo delle sp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Amministrazione dei rifornimenti aliment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Assegnazione dell’</a:t>
            </a:r>
            <a:r>
              <a:rPr b="1" i="1" lang="it-IT" sz="2800" spc="-1" strike="noStrike">
                <a:solidFill>
                  <a:srgbClr val="000000"/>
                </a:solidFill>
                <a:latin typeface="Tempus Sans ITC"/>
              </a:rPr>
              <a:t>ager publi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Stipula dei patti di alleanza e trattati di 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ArrowLeft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6324480"/>
            <a:ext cx="34272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71800" y="380880"/>
            <a:ext cx="32004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empus Sans ITC"/>
              </a:rPr>
              <a:t>ASSEMBL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133720" y="990720"/>
            <a:ext cx="838080" cy="1218960"/>
          </a:xfrm>
          <a:prstGeom prst="line">
            <a:avLst/>
          </a:prstGeom>
          <a:ln w="255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990720"/>
            <a:ext cx="0" cy="3657600"/>
          </a:xfrm>
          <a:prstGeom prst="line">
            <a:avLst/>
          </a:prstGeom>
          <a:ln w="255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990720"/>
            <a:ext cx="838080" cy="1143000"/>
          </a:xfrm>
          <a:prstGeom prst="line">
            <a:avLst/>
          </a:prstGeom>
          <a:ln w="255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86000"/>
            <a:ext cx="2971800" cy="214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empus Sans ITC"/>
              </a:rPr>
              <a:t>COMIZI CURI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Tutti i cittadini riuniti in curie. Competenze religiose e danno il comando ai magistrati el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4724280"/>
            <a:ext cx="3733920" cy="153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empus Sans ITC"/>
              </a:rPr>
              <a:t>COMIZI CENTURI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Tutti i cittadini riuniti in centurie secondo il censo. Ogni centuria ha un v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2209680"/>
            <a:ext cx="2895840" cy="153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empus Sans ITC"/>
              </a:rPr>
              <a:t>COMIZI TRIB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Tutti i cittadini riuniti in tribù territo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rrowRight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00960" y="61912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533520"/>
            <a:ext cx="5333760" cy="122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empus Sans ITC"/>
              </a:rPr>
              <a:t>COMIZI TRIB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Tutti i cittadini riuniti in tribù territo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4479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14479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286000"/>
            <a:ext cx="2362320" cy="1219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empus Sans ITC"/>
              </a:rPr>
              <a:t>QUES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286000"/>
            <a:ext cx="2362320" cy="1219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empus Sans ITC"/>
              </a:rPr>
              <a:t>ED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3505320"/>
            <a:ext cx="0" cy="1218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800600"/>
            <a:ext cx="289548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1 ANNO CUSTODISCONO TESORO STATO RISCUOTONO T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3505320"/>
            <a:ext cx="0" cy="1295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4876920"/>
            <a:ext cx="259092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1 ANNO SOVRINTENDONO LAVORI PUBBLIC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44792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2895480"/>
            <a:ext cx="2362320" cy="1219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empus Sans ITC"/>
              </a:rPr>
              <a:t>TRIBU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empus Sans ITC"/>
              </a:rPr>
              <a:t>PLE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114800"/>
            <a:ext cx="0" cy="609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4800600"/>
            <a:ext cx="1600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V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ArrowRight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00960" y="61912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533520"/>
            <a:ext cx="7772400" cy="122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empus Sans ITC"/>
              </a:rPr>
              <a:t>COMIZI CENTURI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utti i cittadini riuniti in centurie secondo il censo. Ogni centuria ha un v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18288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43800" y="18288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18288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2514600"/>
            <a:ext cx="2362320" cy="1219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empus Sans ITC"/>
              </a:rPr>
              <a:t>PRE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2514600"/>
            <a:ext cx="2361960" cy="1219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empus Sans ITC"/>
              </a:rPr>
              <a:t>CENS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2438280"/>
            <a:ext cx="2362320" cy="1219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empus Sans ITC"/>
              </a:rPr>
              <a:t>CONS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3733920"/>
            <a:ext cx="0" cy="838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3733920"/>
            <a:ext cx="0" cy="838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3657600"/>
            <a:ext cx="0" cy="838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572000"/>
            <a:ext cx="236232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1 ANNO AMMINISTRANO GIUSTIZ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4594320"/>
            <a:ext cx="3200400" cy="1789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18 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CENS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APPAL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CONTROLLO MO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4572000"/>
            <a:ext cx="2286000" cy="1472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1 AN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CAPI DI STATO POTERE CIVILE E MILIT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rrowRight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00960" y="634356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819520" y="28954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empus Sans ITC"/>
              </a:rPr>
              <a:t>F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7:18:49Z</dcterms:created>
  <dc:creator>Administrator</dc:creator>
  <dc:description/>
  <dc:language>en-US</dc:language>
  <cp:lastModifiedBy>Zappella</cp:lastModifiedBy>
  <dcterms:modified xsi:type="dcterms:W3CDTF">2005-08-30T15:40:08Z</dcterms:modified>
  <cp:revision>11</cp:revision>
  <dc:subject/>
  <dc:title>Presentazione di PowerPoint</dc:title>
</cp:coreProperties>
</file>